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891E-2873-4819-B932-2EA9E54CD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 ‘John Donne’  appears as one of the first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0FCE-BF8A-45AE-BF15-86611FBC2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45968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09F8-BFE0-45A6-8CF9-0886ADD06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45968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45968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C342-B7E7-4C60-AC19-B8F0BA805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13336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13336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45968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45968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459680"/>
            <a:ext cx="264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9E4E-4AA3-48CA-BBBB-F8C7A1FA9C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308D-991C-4324-B658-538A16ABB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7DEE-3C59-4B59-9AC2-4FEB8FFDE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CE86-1B4E-4E6B-8946-58D35E6E9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07C3-82F4-42F2-926A-1BBFB95A4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1158480"/>
            <a:ext cx="701028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FADC-4A81-4048-9245-51B729DFF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45968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38A1-06D5-4B7B-B9E5-30D1281A9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45968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AC6A-EAEF-4D78-BE57-F88BC3F5B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45968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7A65-A137-4048-A318-EDDBA2B1B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2133360"/>
            <a:ext cx="82296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ww.northernligh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819520" y="762120"/>
            <a:ext cx="5105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7760" y="352440"/>
            <a:ext cx="1073160" cy="13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53760"/>
            <a:ext cx="77724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dexing and Classification at Northern Ligh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to CENDI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Vocabulary and the Intern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 29,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yce 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ern Light Technology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!SEARCHF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340080" cy="6508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380880" y="2362320"/>
            <a:ext cx="2948400" cy="653400"/>
            <a:chOff x="380880" y="2362320"/>
            <a:chExt cx="2948400" cy="653400"/>
          </a:xfrm>
        </p:grpSpPr>
        <p:sp>
          <p:nvSpPr>
            <p:cNvPr id="77" name=""/>
            <p:cNvSpPr/>
            <p:nvPr/>
          </p:nvSpPr>
          <p:spPr>
            <a:xfrm>
              <a:off x="612720" y="2362320"/>
              <a:ext cx="271656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pecial Collection 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mmercial s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80880" y="2441880"/>
              <a:ext cx="226080" cy="524880"/>
              <a:chOff x="380880" y="2441880"/>
              <a:chExt cx="226080" cy="524880"/>
            </a:xfrm>
          </p:grpSpPr>
          <p:sp>
            <p:nvSpPr>
              <p:cNvPr id="79" name=""/>
              <p:cNvSpPr/>
              <p:nvPr/>
            </p:nvSpPr>
            <p:spPr>
              <a:xfrm>
                <a:off x="380880" y="2441880"/>
                <a:ext cx="226080" cy="232560"/>
              </a:xfrm>
              <a:custGeom>
                <a:avLst/>
                <a:gdLst/>
                <a:ahLst/>
                <a:rect l="l" t="t" r="r" b="b"/>
                <a:pathLst>
                  <a:path w="222" h="177">
                    <a:moveTo>
                      <a:pt x="222" y="174"/>
                    </a:moveTo>
                    <a:lnTo>
                      <a:pt x="222" y="33"/>
                    </a:lnTo>
                    <a:lnTo>
                      <a:pt x="120" y="33"/>
                    </a:lnTo>
                    <a:lnTo>
                      <a:pt x="99" y="0"/>
                    </a:lnTo>
                    <a:lnTo>
                      <a:pt x="24" y="0"/>
                    </a:lnTo>
                    <a:lnTo>
                      <a:pt x="0" y="33"/>
                    </a:lnTo>
                    <a:lnTo>
                      <a:pt x="0" y="177"/>
                    </a:lnTo>
                    <a:lnTo>
                      <a:pt x="222" y="174"/>
                    </a:lnTo>
                    <a:close/>
                  </a:path>
                </a:pathLst>
              </a:custGeom>
              <a:solidFill>
                <a:srgbClr val="ffee99"/>
              </a:solidFill>
              <a:ln w="12600">
                <a:solidFill>
                  <a:srgbClr val="663300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80" y="2734200"/>
                <a:ext cx="226080" cy="232560"/>
              </a:xfrm>
              <a:custGeom>
                <a:avLst/>
                <a:gdLst/>
                <a:ahLst/>
                <a:rect l="l" t="t" r="r" b="b"/>
                <a:pathLst>
                  <a:path w="222" h="177">
                    <a:moveTo>
                      <a:pt x="222" y="174"/>
                    </a:moveTo>
                    <a:lnTo>
                      <a:pt x="222" y="33"/>
                    </a:lnTo>
                    <a:lnTo>
                      <a:pt x="120" y="33"/>
                    </a:lnTo>
                    <a:lnTo>
                      <a:pt x="99" y="0"/>
                    </a:lnTo>
                    <a:lnTo>
                      <a:pt x="24" y="0"/>
                    </a:lnTo>
                    <a:lnTo>
                      <a:pt x="0" y="33"/>
                    </a:lnTo>
                    <a:lnTo>
                      <a:pt x="0" y="177"/>
                    </a:lnTo>
                    <a:lnTo>
                      <a:pt x="222" y="174"/>
                    </a:lnTo>
                    <a:close/>
                  </a:path>
                </a:pathLst>
              </a:custGeom>
              <a:solidFill>
                <a:srgbClr val="ffee99"/>
              </a:solidFill>
              <a:ln w="12600">
                <a:solidFill>
                  <a:srgbClr val="663300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"/>
          <p:cNvGrpSpPr/>
          <p:nvPr/>
        </p:nvGrpSpPr>
        <p:grpSpPr>
          <a:xfrm>
            <a:off x="380880" y="3048120"/>
            <a:ext cx="3086640" cy="656640"/>
            <a:chOff x="380880" y="3048120"/>
            <a:chExt cx="3086640" cy="656640"/>
          </a:xfrm>
        </p:grpSpPr>
        <p:sp>
          <p:nvSpPr>
            <p:cNvPr id="82" name=""/>
            <p:cNvSpPr/>
            <p:nvPr/>
          </p:nvSpPr>
          <p:spPr>
            <a:xfrm>
              <a:off x="622800" y="3048120"/>
              <a:ext cx="28447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ociology of the 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mployee assistance progr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880" y="3155760"/>
              <a:ext cx="237960" cy="24336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0880" y="3461400"/>
              <a:ext cx="237960" cy="24336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0880" y="3809880"/>
            <a:ext cx="1381320" cy="373680"/>
            <a:chOff x="380880" y="3809880"/>
            <a:chExt cx="1381320" cy="373680"/>
          </a:xfrm>
        </p:grpSpPr>
        <p:sp>
          <p:nvSpPr>
            <p:cNvPr id="86" name=""/>
            <p:cNvSpPr/>
            <p:nvPr/>
          </p:nvSpPr>
          <p:spPr>
            <a:xfrm>
              <a:off x="677880" y="3809880"/>
              <a:ext cx="108432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Neur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89268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267080"/>
            <a:ext cx="2165760" cy="1268640"/>
            <a:chOff x="380880" y="4267080"/>
            <a:chExt cx="2165760" cy="1268640"/>
          </a:xfrm>
        </p:grpSpPr>
        <p:sp>
          <p:nvSpPr>
            <p:cNvPr id="89" name=""/>
            <p:cNvSpPr/>
            <p:nvPr/>
          </p:nvSpPr>
          <p:spPr>
            <a:xfrm>
              <a:off x="678960" y="4267080"/>
              <a:ext cx="186768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nline ban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Helicop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Martial a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hinese philosop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880" y="434664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880" y="467064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498492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5299200"/>
              <a:ext cx="29556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0880" y="5743440"/>
            <a:ext cx="1450800" cy="373680"/>
            <a:chOff x="380880" y="5743440"/>
            <a:chExt cx="1450800" cy="373680"/>
          </a:xfrm>
        </p:grpSpPr>
        <p:sp>
          <p:nvSpPr>
            <p:cNvPr id="95" name=""/>
            <p:cNvSpPr/>
            <p:nvPr/>
          </p:nvSpPr>
          <p:spPr>
            <a:xfrm>
              <a:off x="693720" y="5743440"/>
              <a:ext cx="113796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l others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5840280"/>
              <a:ext cx="3096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6720" y="1752480"/>
            <a:ext cx="5715000" cy="3970800"/>
            <a:chOff x="3276720" y="1752480"/>
            <a:chExt cx="5715000" cy="3970800"/>
          </a:xfrm>
        </p:grpSpPr>
        <p:sp>
          <p:nvSpPr>
            <p:cNvPr id="98" name=""/>
            <p:cNvSpPr/>
            <p:nvPr/>
          </p:nvSpPr>
          <p:spPr>
            <a:xfrm>
              <a:off x="3276720" y="1752480"/>
              <a:ext cx="5540040" cy="12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Times New Roman"/>
                </a:rPr>
                <a:t>1. 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WHAT IS BALANC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84% - Articles &amp; General info: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WHAT IS BALANCE? Back to New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Evangelicanism Reports.  Back to the Way of Life Home Page Way of Life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Literature Online Catalog You Can Own…11/09/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Personal Page: 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http://www.dsinclair.com /~dcloud/fbns /whatisbalance.ht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6720" y="3202560"/>
              <a:ext cx="5715000" cy="12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Times New Roman"/>
                </a:rPr>
                <a:t>2.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	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Emotional Stability is Bala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77% - Articles &amp; General info: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Emotional Stability is Balance Emotional Stability is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alance - 1 He is unbalanced - 2 She’s not on an even keel - 3 They’re upset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3/24/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Educational site: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http://cogsci.berkeley.edu/metaphors/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EmotionalStabilityIsBalance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6720" y="4654800"/>
              <a:ext cx="5481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Times New Roman"/>
                </a:rPr>
                <a:t>3.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	</a:t>
              </a:r>
              <a:r>
                <a:rPr b="0" lang="en-US" sz="22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What is balanc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808080"/>
                  </a:solidFill>
                  <a:uFillTx/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73% - Biographical sources: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“What is balance?” This is an ongoing, soul-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earching, head-scratching question that my husband, Don, and I ponder on a regular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ases….07/01/96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90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808080"/>
                  </a:solidFill>
                  <a:latin typeface="Times New Roman"/>
                </a:rPr>
                <a:t>Exceptional parent (magazine):  </a:t>
              </a: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vailable at Northern 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3276720" y="304920"/>
          <a:ext cx="5181480" cy="13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04920"/>
                    <a:ext cx="51814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are folders  used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7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ocus results on a specific aspect of of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ambiguate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swer question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124080" y="685800"/>
          <a:ext cx="580716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685800"/>
                    <a:ext cx="580716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52280" y="457200"/>
          <a:ext cx="2813040" cy="550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28130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1158480"/>
            <a:ext cx="58723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bject classifying the Web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approaches do not scale: cost of classifying 1 journal article=$1.70.  Multiplied by 178 million web pages = about $3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etermine document’s subject,  type, source and languag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telligence system uses controlled vocabulary to classify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utomatic classification techniqu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6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(vs totally manual, totally automatic):  human-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words contained in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erm Frequency/Inverse Document Frequency methods to match document to term(s) from controlled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set of co-occurring terms derived from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must have a strong degree of ‘aboutness’ to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253040" y="7478640"/>
          <a:ext cx="6073560" cy="40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3040" y="7478640"/>
                    <a:ext cx="60735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L’s subject vocabular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3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scope is unlimited (as in LC, Dewey, Yaho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oints of reference were DDC, LC Subject headings, UMI subject headings, and subject-specialized classific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, selective conflation of 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NL with content partners’ vocabularies gives freshness,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,000 concepts; 200-300,000 concept equival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top-level subjects; hierarchies 7 - 9 levels 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62120" y="914400"/>
          <a:ext cx="756432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56432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303840"/>
            <a:ext cx="63248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L Subject areas and relative siz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671040"/>
            <a:ext cx="708984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y bother classifying?  why not use contents of &lt;meta&gt; tags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is presen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30% of web pages (Site Metrics, 97 &amp; 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than 40% of web pages (NL sample, Oct 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at is generated by page creation software &amp; carries no ‘subject’ fr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metadata as provided by page creators is mostly 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amounts of well-formed metadata on the web at thi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671040"/>
            <a:ext cx="708984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bject &lt;meta&gt; from a randomly crawled pa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39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les.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games,games,games,gamez,gamez,game,game,game,gamez,nes,nes,nes,snes,snes,snes,sega,sega,sega,genesis,genesis,genesis,roms,roms,roms,emulator,emulator,emulator,emulators,emulators,emulators,shareware,shareware,shareware,download,download,download,games,games,games,gamez,gamez,game,game,game,gamez,nes,nes,nes,snes,snes,snes,sega,sega,sega,genesis,genesis,genesis,roms,roms,roms,emulator,emulator,emulator,emulators,emulators,emulators,download,download,download,games,games,games,gamez,gamez,game,game,game,gamez,nes,nes,nes,snes,snes,snes,sega,sega,sega,genesis,genesis,genesis,roms,roms,roms,emulator,emulator,emulator,emulators,emulators,emulators,download,download,download,games,games,games,gamez,gamez,game,game,game,gamez,nes,nes,nes,snes,snes,snes,sega,sega,sega,genesis,genesis,genesis,roms,roms,roms,emulator,emulator,emulator,emulators,emulators,emulators,download,download,downloa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0200" y="671040"/>
            <a:ext cx="708984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bject classifying the Special Coll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he information provider’s metadata to the NL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NL Directory where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classify where metadata is non-existent or when fewer than 2 subjects ar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ynonyms are preserved &amp; used to automatically match new vocabs to NL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L’s fundamental goal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0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Web data with quality information not on the Web (‘Special Collection’) in a single integrated 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results set manageable for user (already a problem; worse after non-Web data is ad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user from searc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text in singl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1060920"/>
            <a:ext cx="701028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pping FDCH categories to N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52480" y="1981080"/>
            <a:ext cx="5638320" cy="3490200"/>
            <a:chOff x="1752480" y="1981080"/>
            <a:chExt cx="5638320" cy="3490200"/>
          </a:xfrm>
        </p:grpSpPr>
        <p:graphicFrame>
          <p:nvGraphicFramePr>
            <p:cNvPr id="128" name=""/>
            <p:cNvGraphicFramePr/>
            <p:nvPr/>
          </p:nvGraphicFramePr>
          <p:xfrm>
            <a:off x="1774800" y="2745360"/>
            <a:ext cx="5616000" cy="2725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74800" y="2745360"/>
                      <a:ext cx="5616000" cy="27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1752480" y="1981080"/>
            <a:ext cx="5615280" cy="691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1981080"/>
                      <a:ext cx="561528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671040"/>
            <a:ext cx="7010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trolled vocabularies enable specialized search engin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ies can be used as powerful subject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nd" descr=""/>
          <p:cNvPicPr/>
          <p:nvPr/>
        </p:nvPicPr>
        <p:blipFill>
          <a:blip r:embed="rId1"/>
          <a:stretch/>
        </p:blipFill>
        <p:spPr>
          <a:xfrm>
            <a:off x="1981080" y="623880"/>
            <a:ext cx="6334200" cy="5581800"/>
          </a:xfrm>
          <a:prstGeom prst="rect">
            <a:avLst/>
          </a:prstGeom>
          <a:ln w="0">
            <a:noFill/>
          </a:ln>
        </p:spPr>
      </p:pic>
      <p:pic>
        <p:nvPicPr>
          <p:cNvPr id="135" name="diagnost" descr=""/>
          <p:cNvPicPr/>
          <p:nvPr/>
        </p:nvPicPr>
        <p:blipFill>
          <a:blip r:embed="rId2"/>
          <a:srcRect l="0" t="9921" r="0" b="9921"/>
          <a:stretch/>
        </p:blipFill>
        <p:spPr>
          <a:xfrm>
            <a:off x="2562120" y="1498680"/>
            <a:ext cx="1600200" cy="154080"/>
          </a:xfrm>
          <a:prstGeom prst="rect">
            <a:avLst/>
          </a:prstGeom>
          <a:ln w="0">
            <a:noFill/>
          </a:ln>
        </p:spPr>
      </p:pic>
      <p:pic>
        <p:nvPicPr>
          <p:cNvPr id="136" name="newglw" descr=""/>
          <p:cNvPicPr/>
          <p:nvPr/>
        </p:nvPicPr>
        <p:blipFill>
          <a:blip r:embed="rId3"/>
          <a:stretch/>
        </p:blipFill>
        <p:spPr>
          <a:xfrm>
            <a:off x="5181480" y="1353960"/>
            <a:ext cx="1600200" cy="406440"/>
          </a:xfrm>
          <a:prstGeom prst="rect">
            <a:avLst/>
          </a:prstGeom>
          <a:ln w="0">
            <a:noFill/>
          </a:ln>
        </p:spPr>
      </p:pic>
      <p:pic>
        <p:nvPicPr>
          <p:cNvPr id="137" name="hmbuttons" descr=""/>
          <p:cNvPicPr/>
          <p:nvPr/>
        </p:nvPicPr>
        <p:blipFill>
          <a:blip r:embed="rId4"/>
          <a:stretch/>
        </p:blipFill>
        <p:spPr>
          <a:xfrm>
            <a:off x="762120" y="1905120"/>
            <a:ext cx="1066680" cy="3227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3717200">
            <a:off x="5536080" y="1625760"/>
            <a:ext cx="533160" cy="176040"/>
          </a:xfrm>
          <a:custGeom>
            <a:avLst/>
            <a:gdLst>
              <a:gd name="textAreaLeft" fmla="*/ 66600 w 533160"/>
              <a:gd name="textAreaRight" fmla="*/ 466560 w 533160"/>
              <a:gd name="textAreaTop" fmla="*/ 43920 h 176040"/>
              <a:gd name="textAreaBottom" fmla="*/ 132120 h 176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fatck" descr=""/>
          <p:cNvPicPr/>
          <p:nvPr/>
        </p:nvPicPr>
        <p:blipFill>
          <a:blip r:embed="rId5"/>
          <a:srcRect l="0" t="0" r="355000" b="230000"/>
          <a:stretch/>
        </p:blipFill>
        <p:spPr>
          <a:xfrm>
            <a:off x="2749680" y="3301920"/>
            <a:ext cx="231480" cy="2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newcomtop" descr=""/>
          <p:cNvPicPr/>
          <p:nvPr/>
        </p:nvPicPr>
        <p:blipFill>
          <a:blip r:embed="rId1"/>
          <a:srcRect l="0" t="1797" r="0" b="0"/>
          <a:stretch/>
        </p:blipFill>
        <p:spPr>
          <a:xfrm>
            <a:off x="1749600" y="38160"/>
            <a:ext cx="6708600" cy="1396800"/>
          </a:xfrm>
          <a:prstGeom prst="rect">
            <a:avLst/>
          </a:prstGeom>
          <a:ln w="0">
            <a:noFill/>
          </a:ln>
        </p:spPr>
      </p:pic>
      <p:pic>
        <p:nvPicPr>
          <p:cNvPr id="141" name="newcomplst" descr=""/>
          <p:cNvPicPr/>
          <p:nvPr/>
        </p:nvPicPr>
        <p:blipFill>
          <a:blip r:embed="rId2"/>
          <a:stretch/>
        </p:blipFill>
        <p:spPr>
          <a:xfrm>
            <a:off x="1714680" y="1257480"/>
            <a:ext cx="63910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newcomtop" descr=""/>
          <p:cNvPicPr/>
          <p:nvPr/>
        </p:nvPicPr>
        <p:blipFill>
          <a:blip r:embed="rId1">
            <a:lum bright="70000" contrast="-70000"/>
          </a:blip>
          <a:srcRect l="0" t="1797" r="0" b="0"/>
          <a:stretch/>
        </p:blipFill>
        <p:spPr>
          <a:xfrm>
            <a:off x="3087720" y="76320"/>
            <a:ext cx="52322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newcomplst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060720" y="1027080"/>
            <a:ext cx="4984560" cy="4340160"/>
          </a:xfrm>
          <a:prstGeom prst="rect">
            <a:avLst/>
          </a:prstGeom>
          <a:ln w="0">
            <a:noFill/>
          </a:ln>
        </p:spPr>
      </p:pic>
      <p:pic>
        <p:nvPicPr>
          <p:cNvPr id="144" name="custsrch" descr=""/>
          <p:cNvPicPr/>
          <p:nvPr/>
        </p:nvPicPr>
        <p:blipFill>
          <a:blip r:embed="rId3"/>
          <a:srcRect l="3366" t="32883" r="5681" b="5173"/>
          <a:stretch/>
        </p:blipFill>
        <p:spPr>
          <a:xfrm>
            <a:off x="177840" y="1676520"/>
            <a:ext cx="2946240" cy="5522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304920" y="2116080"/>
            <a:ext cx="2586240" cy="409320"/>
            <a:chOff x="304920" y="2116080"/>
            <a:chExt cx="2586240" cy="409320"/>
          </a:xfrm>
        </p:grpSpPr>
        <p:sp>
          <p:nvSpPr>
            <p:cNvPr id="146" name=""/>
            <p:cNvSpPr/>
            <p:nvPr/>
          </p:nvSpPr>
          <p:spPr>
            <a:xfrm>
              <a:off x="601200" y="2116080"/>
              <a:ext cx="22899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earch Current Ne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20" y="222732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920" y="2911320"/>
            <a:ext cx="2472840" cy="1355400"/>
            <a:chOff x="304920" y="2911320"/>
            <a:chExt cx="2472840" cy="1355400"/>
          </a:xfrm>
        </p:grpSpPr>
        <p:sp>
          <p:nvSpPr>
            <p:cNvPr id="149" name=""/>
            <p:cNvSpPr/>
            <p:nvPr/>
          </p:nvSpPr>
          <p:spPr>
            <a:xfrm>
              <a:off x="600480" y="2911320"/>
              <a:ext cx="217728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mputer netwo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Local area netwo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Mod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able mod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920" y="301932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334332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365760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397188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04920" y="6424560"/>
            <a:ext cx="1559160" cy="409320"/>
            <a:chOff x="304920" y="6424560"/>
            <a:chExt cx="1559160" cy="409320"/>
          </a:xfrm>
        </p:grpSpPr>
        <p:sp>
          <p:nvSpPr>
            <p:cNvPr id="155" name=""/>
            <p:cNvSpPr/>
            <p:nvPr/>
          </p:nvSpPr>
          <p:spPr>
            <a:xfrm>
              <a:off x="599760" y="6424560"/>
              <a:ext cx="12643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l others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655020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01680" y="2479680"/>
            <a:ext cx="2225520" cy="409320"/>
            <a:chOff x="301680" y="2479680"/>
            <a:chExt cx="2225520" cy="409320"/>
          </a:xfrm>
        </p:grpSpPr>
        <p:sp>
          <p:nvSpPr>
            <p:cNvPr id="158" name=""/>
            <p:cNvSpPr/>
            <p:nvPr/>
          </p:nvSpPr>
          <p:spPr>
            <a:xfrm>
              <a:off x="596880" y="2479680"/>
              <a:ext cx="19303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pecial Col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680" y="2590560"/>
              <a:ext cx="295200" cy="23616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14280" y="4319640"/>
            <a:ext cx="2415240" cy="1040040"/>
            <a:chOff x="314280" y="4319640"/>
            <a:chExt cx="2415240" cy="1040040"/>
          </a:xfrm>
        </p:grpSpPr>
        <p:sp>
          <p:nvSpPr>
            <p:cNvPr id="161" name=""/>
            <p:cNvSpPr/>
            <p:nvPr/>
          </p:nvSpPr>
          <p:spPr>
            <a:xfrm>
              <a:off x="610200" y="4319640"/>
              <a:ext cx="211932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ersonal compu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mputer cac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Buses (comput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4280" y="442764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4280" y="475128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280" y="506556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4280" y="5361120"/>
            <a:ext cx="2511720" cy="1040040"/>
            <a:chOff x="314280" y="5361120"/>
            <a:chExt cx="2511720" cy="1040040"/>
          </a:xfrm>
        </p:grpSpPr>
        <p:sp>
          <p:nvSpPr>
            <p:cNvPr id="166" name=""/>
            <p:cNvSpPr/>
            <p:nvPr/>
          </p:nvSpPr>
          <p:spPr>
            <a:xfrm>
              <a:off x="609120" y="5361120"/>
              <a:ext cx="221688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Health care 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oftware indus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ircui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4280" y="5468760"/>
              <a:ext cx="295200" cy="2368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280" y="579276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4280" y="6107040"/>
              <a:ext cx="295200" cy="236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nd" descr=""/>
          <p:cNvPicPr/>
          <p:nvPr/>
        </p:nvPicPr>
        <p:blipFill>
          <a:blip r:embed="rId1"/>
          <a:stretch/>
        </p:blipFill>
        <p:spPr>
          <a:xfrm>
            <a:off x="1981080" y="623880"/>
            <a:ext cx="6334200" cy="5581800"/>
          </a:xfrm>
          <a:prstGeom prst="rect">
            <a:avLst/>
          </a:prstGeom>
          <a:ln w="0">
            <a:noFill/>
          </a:ln>
        </p:spPr>
      </p:pic>
      <p:pic>
        <p:nvPicPr>
          <p:cNvPr id="171" name="diagnost" descr=""/>
          <p:cNvPicPr/>
          <p:nvPr/>
        </p:nvPicPr>
        <p:blipFill>
          <a:blip r:embed="rId2"/>
          <a:srcRect l="0" t="9921" r="0" b="9921"/>
          <a:stretch/>
        </p:blipFill>
        <p:spPr>
          <a:xfrm>
            <a:off x="2562120" y="1498680"/>
            <a:ext cx="16002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newglw" descr=""/>
          <p:cNvPicPr/>
          <p:nvPr/>
        </p:nvPicPr>
        <p:blipFill>
          <a:blip r:embed="rId3"/>
          <a:stretch/>
        </p:blipFill>
        <p:spPr>
          <a:xfrm>
            <a:off x="5181480" y="1353960"/>
            <a:ext cx="1600200" cy="406440"/>
          </a:xfrm>
          <a:prstGeom prst="rect">
            <a:avLst/>
          </a:prstGeom>
          <a:ln w="0">
            <a:noFill/>
          </a:ln>
        </p:spPr>
      </p:pic>
      <p:pic>
        <p:nvPicPr>
          <p:cNvPr id="173" name="hmbuttons" descr=""/>
          <p:cNvPicPr/>
          <p:nvPr/>
        </p:nvPicPr>
        <p:blipFill>
          <a:blip r:embed="rId4"/>
          <a:stretch/>
        </p:blipFill>
        <p:spPr>
          <a:xfrm>
            <a:off x="762120" y="1905120"/>
            <a:ext cx="1066680" cy="322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3717200">
            <a:off x="5536080" y="1625760"/>
            <a:ext cx="533160" cy="176040"/>
          </a:xfrm>
          <a:custGeom>
            <a:avLst/>
            <a:gdLst>
              <a:gd name="textAreaLeft" fmla="*/ 66600 w 533160"/>
              <a:gd name="textAreaRight" fmla="*/ 466560 w 533160"/>
              <a:gd name="textAreaTop" fmla="*/ 43920 h 176040"/>
              <a:gd name="textAreaBottom" fmla="*/ 132120 h 176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fatck" descr=""/>
          <p:cNvPicPr/>
          <p:nvPr/>
        </p:nvPicPr>
        <p:blipFill>
          <a:blip r:embed="rId5"/>
          <a:srcRect l="0" t="0" r="355000" b="230000"/>
          <a:stretch/>
        </p:blipFill>
        <p:spPr>
          <a:xfrm>
            <a:off x="4340160" y="2911320"/>
            <a:ext cx="231840" cy="2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healthtop" descr=""/>
          <p:cNvPicPr/>
          <p:nvPr/>
        </p:nvPicPr>
        <p:blipFill>
          <a:blip r:embed="rId1"/>
          <a:stretch/>
        </p:blipFill>
        <p:spPr>
          <a:xfrm>
            <a:off x="1676520" y="25560"/>
            <a:ext cx="6048360" cy="1384200"/>
          </a:xfrm>
          <a:prstGeom prst="rect">
            <a:avLst/>
          </a:prstGeom>
          <a:ln w="0">
            <a:noFill/>
          </a:ln>
        </p:spPr>
      </p:pic>
      <p:pic>
        <p:nvPicPr>
          <p:cNvPr id="177" name="healthlist" descr=""/>
          <p:cNvPicPr/>
          <p:nvPr/>
        </p:nvPicPr>
        <p:blipFill>
          <a:blip r:embed="rId2"/>
          <a:srcRect l="0" t="0" r="0" b="1406"/>
          <a:stretch/>
        </p:blipFill>
        <p:spPr>
          <a:xfrm>
            <a:off x="1676520" y="1254240"/>
            <a:ext cx="725472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healtht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32280" y="27000"/>
            <a:ext cx="5032080" cy="1150920"/>
          </a:xfrm>
          <a:prstGeom prst="rect">
            <a:avLst/>
          </a:prstGeom>
          <a:ln w="0">
            <a:noFill/>
          </a:ln>
        </p:spPr>
      </p:pic>
      <p:pic>
        <p:nvPicPr>
          <p:cNvPr id="179" name="healthlist" descr=""/>
          <p:cNvPicPr/>
          <p:nvPr/>
        </p:nvPicPr>
        <p:blipFill>
          <a:blip r:embed="rId2">
            <a:lum bright="70000" contrast="-70000"/>
          </a:blip>
          <a:srcRect l="0" t="0" r="2526" b="1406"/>
          <a:stretch/>
        </p:blipFill>
        <p:spPr>
          <a:xfrm>
            <a:off x="3032280" y="1049400"/>
            <a:ext cx="5883120" cy="4157640"/>
          </a:xfrm>
          <a:prstGeom prst="rect">
            <a:avLst/>
          </a:prstGeom>
          <a:ln w="0">
            <a:noFill/>
          </a:ln>
        </p:spPr>
      </p:pic>
      <p:pic>
        <p:nvPicPr>
          <p:cNvPr id="180" name="custsrch" descr=""/>
          <p:cNvPicPr/>
          <p:nvPr/>
        </p:nvPicPr>
        <p:blipFill>
          <a:blip r:embed="rId3"/>
          <a:srcRect l="3366" t="32883" r="5681" b="5173"/>
          <a:stretch/>
        </p:blipFill>
        <p:spPr>
          <a:xfrm>
            <a:off x="177840" y="1676520"/>
            <a:ext cx="2946240" cy="55224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04920" y="2162160"/>
            <a:ext cx="2314800" cy="373680"/>
            <a:chOff x="304920" y="2162160"/>
            <a:chExt cx="2314800" cy="373680"/>
          </a:xfrm>
        </p:grpSpPr>
        <p:sp>
          <p:nvSpPr>
            <p:cNvPr id="182" name=""/>
            <p:cNvSpPr/>
            <p:nvPr/>
          </p:nvSpPr>
          <p:spPr>
            <a:xfrm>
              <a:off x="570600" y="2162160"/>
              <a:ext cx="204912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earch Current N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920" y="223200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04920" y="2921040"/>
            <a:ext cx="3316320" cy="1370160"/>
            <a:chOff x="304920" y="2921040"/>
            <a:chExt cx="3316320" cy="1370160"/>
          </a:xfrm>
        </p:grpSpPr>
        <p:sp>
          <p:nvSpPr>
            <p:cNvPr id="185" name=""/>
            <p:cNvSpPr/>
            <p:nvPr/>
          </p:nvSpPr>
          <p:spPr>
            <a:xfrm>
              <a:off x="566640" y="2921040"/>
              <a:ext cx="305460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harmaceuticals indu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Diagnostic test ag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harmacists &amp; pharmacy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HIV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297972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920" y="326556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3543480"/>
              <a:ext cx="260280" cy="2077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920" y="404640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4920" y="6402240"/>
            <a:ext cx="1403640" cy="373680"/>
            <a:chOff x="304920" y="6402240"/>
            <a:chExt cx="1403640" cy="373680"/>
          </a:xfrm>
        </p:grpSpPr>
        <p:sp>
          <p:nvSpPr>
            <p:cNvPr id="191" name=""/>
            <p:cNvSpPr/>
            <p:nvPr/>
          </p:nvSpPr>
          <p:spPr>
            <a:xfrm>
              <a:off x="570600" y="6402240"/>
              <a:ext cx="113796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l others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648504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1680" y="2514600"/>
            <a:ext cx="1996920" cy="373680"/>
            <a:chOff x="301680" y="2514600"/>
            <a:chExt cx="1996920" cy="373680"/>
          </a:xfrm>
        </p:grpSpPr>
        <p:sp>
          <p:nvSpPr>
            <p:cNvPr id="194" name=""/>
            <p:cNvSpPr/>
            <p:nvPr/>
          </p:nvSpPr>
          <p:spPr>
            <a:xfrm>
              <a:off x="568080" y="2514600"/>
              <a:ext cx="173052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pecial 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1680" y="258444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920" y="4432320"/>
            <a:ext cx="2265480" cy="1880640"/>
            <a:chOff x="304920" y="4432320"/>
            <a:chExt cx="2265480" cy="1880640"/>
          </a:xfrm>
        </p:grpSpPr>
        <p:sp>
          <p:nvSpPr>
            <p:cNvPr id="197" name=""/>
            <p:cNvSpPr/>
            <p:nvPr/>
          </p:nvSpPr>
          <p:spPr>
            <a:xfrm>
              <a:off x="580680" y="4432320"/>
              <a:ext cx="1989720" cy="18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Gene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atent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Heart (Physiolog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lerg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thopedic surge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lzheimer’s dis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enicil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840" y="451332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2840" y="477504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840" y="5033880"/>
              <a:ext cx="260280" cy="20808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20" y="528804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554832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580860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6075360"/>
              <a:ext cx="260280" cy="20952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2" y="174"/>
                  </a:moveTo>
                  <a:lnTo>
                    <a:pt x="222" y="33"/>
                  </a:lnTo>
                  <a:lnTo>
                    <a:pt x="120" y="33"/>
                  </a:lnTo>
                  <a:lnTo>
                    <a:pt x="99" y="0"/>
                  </a:lnTo>
                  <a:lnTo>
                    <a:pt x="24" y="0"/>
                  </a:lnTo>
                  <a:lnTo>
                    <a:pt x="0" y="33"/>
                  </a:lnTo>
                  <a:lnTo>
                    <a:pt x="0" y="177"/>
                  </a:lnTo>
                  <a:lnTo>
                    <a:pt x="222" y="174"/>
                  </a:lnTo>
                  <a:close/>
                </a:path>
              </a:pathLst>
            </a:custGeom>
            <a:solidFill>
              <a:srgbClr val="ffee99"/>
            </a:solidFill>
            <a:ln w="12600">
              <a:solidFill>
                <a:srgbClr val="6633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671040"/>
            <a:ext cx="7010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re controlled vocabularies important in the Web environment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rthern Light, they are essential to the way we organize results fo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unified view of all content, regardless of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enable creation of specialized (‘vertical’) search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94120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Joyce War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P, Editor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ward@northernligh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assification’s fundamental goal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y web to the same standard found for jour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ubject, type, source, and language taxonomies to organize content regardless of source  (NL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 all licensed taxonomies to NL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axonomies in a way users can understand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thering Web cont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48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awler (the robot Gulliver) discovers Web pages by following links &amp; feeds them continuously to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liver balances its time between crawling never-before-discovered pages, and updating pages it’s already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liver crawls randomly &amp; in targeted fashion (as determined by librarian e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atabase today includes about 178 million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dexing vs. classifying Web cont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4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wler sends pages to loader, which builds an index of every word on every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er sends pages to classifier, which attempts to determine what the pag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ou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t is from, and the language it is writte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er &amp; classifier handle about 4 million pages/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671040"/>
            <a:ext cx="7010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thering licensed content (‘Special Collection’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 full text from aggregators and publi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oviders’ metadata, when present, as basis for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 includes about 20 million documents (compiling since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classification is us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ent is classified to subject, type, source, language tax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uses this data to analyze &amp; sort query results into Custom Search Folder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prominent themes… “back of the book” index to your 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the user to refine the question (reference  interview appr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8120" y="1295280"/>
          <a:ext cx="458604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5280"/>
                    <a:ext cx="458604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772400" y="1752480"/>
          <a:ext cx="733320" cy="30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1752480"/>
                    <a:ext cx="73332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28600" y="1828800"/>
          <a:ext cx="2871720" cy="433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828800"/>
                    <a:ext cx="287172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124080" y="304920"/>
          <a:ext cx="5257800" cy="95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304920"/>
                    <a:ext cx="52578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1158480"/>
            <a:ext cx="7010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are folders  used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0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ocus results on a specific aspect of of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119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ambiguate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20:54:18Z</dcterms:created>
  <dc:creator>jward</dc:creator>
  <dc:description/>
  <dc:language>en-US</dc:language>
  <cp:lastModifiedBy>Information International Associates, Inc.</cp:lastModifiedBy>
  <cp:lastPrinted>1999-09-28T21:14:51Z</cp:lastPrinted>
  <dcterms:modified xsi:type="dcterms:W3CDTF">1999-12-09T19:21:36Z</dcterms:modified>
  <cp:revision>13</cp:revision>
  <dc:subject/>
  <dc:title>No Slide Title</dc:title>
</cp:coreProperties>
</file>